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7315-9E52-45D8-BD62-DDA9255C8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29F1-E343-4B53-8C00-4325CE0CDD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C004-2B0B-4BA3-A64B-E594769F4A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CD69-E8F1-4DDB-9373-E2E0C59FE6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65AE-57C8-46D3-B0A8-A02F2CCA2F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D345-CCE3-491A-A4AE-964F86B839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D1B2-40B1-460B-B506-3ECB6D58CD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09A3-6243-4DEC-A913-11B990B2E5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2486-6E28-492A-AC90-ED82CE1F65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6A3E-F287-4721-A306-B576819215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2D3-B65D-4CD6-8B1C-87E79D5A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864-086F-49D7-9996-C7862942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5EA-7E24-4394-9D7B-21FFA9F6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E29-F7EE-435B-A373-D69C8177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92A3-713A-4CE3-9A7C-0F65754F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D93A-9FF4-4399-8B9D-B51A1847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A713-B114-4BFA-B576-3D07C54C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BF1C-E375-438C-A099-51762981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55F9-0962-4622-B7BF-B516F170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5687-A013-42D0-8F26-BA34B26C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CB83-5D8E-4EEF-9128-3D82082B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026-8954-4513-A1D5-753C6948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9FC9-0CBF-41C8-9881-CC3A3B1B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34D9-E194-4758-BA36-6D99AB69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3D93-BA8D-4395-9235-37CBE1B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FBD5-7A87-4504-8B27-5B0AD434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35B5-A912-41F0-AC28-6B285E13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ABD-6E5E-4DCC-8780-121A9087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074-F5C4-415F-8477-16FB3D09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678-5BFB-4D88-A114-65910E7B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85D-246A-4AC5-88B5-9E0DE4A6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598-6F78-41BD-BD5D-3629C7F7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7E7-302D-4FB8-876E-47F920D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725-D575-401F-BB1F-B92C2E3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2DD4-2E71-4F24-8D51-A605EBA3E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1AC1-B7C2-457F-A381-FCDBF328D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52464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2743200"/>
            <a:ext cx="510552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5014800" y="0"/>
            <a:ext cx="41292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449568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Fall leav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troduction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the following questions…leave some space between 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o trees change colo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ree pigments found in tre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 we typically see the non dominant pigment and 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trees change color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c of shortening photoperiod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mperature or wea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e Pi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otenoids  (and xanthrophylls – orang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hocyan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n’t we see other pig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 is blockin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 breaks down in fall and is not replaced… other pigments 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638680" y="3505320"/>
            <a:ext cx="3276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organic pi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inside chloropl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2984400" cy="34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84472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tenoids 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, orange, and brown organic pi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b other wavelengths of light to assist 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s use beta-carotene to help make vitamin A (good for vi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2666880" cy="230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2743200" y="4267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533520" y="3992400"/>
            <a:ext cx="1904760" cy="2865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6886440" y="0"/>
            <a:ext cx="22575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hocyan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purple and blue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resent throughout the year as other pigments (only in autum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as the sugar breakdown in the leaf s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029200" y="4162320"/>
            <a:ext cx="4114800" cy="26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629400" y="0"/>
            <a:ext cx="2209680" cy="1665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0" y="4243320"/>
            <a:ext cx="33526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e fall prepar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rients and sap move into the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cular tissue entering leave closes o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200400" y="3281400"/>
            <a:ext cx="33526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28:34Z</dcterms:created>
  <dc:creator>David</dc:creator>
  <dc:description/>
  <dc:language>en-US</dc:language>
  <cp:lastModifiedBy>SASD</cp:lastModifiedBy>
  <dcterms:modified xsi:type="dcterms:W3CDTF">2008-10-08T18:19:39Z</dcterms:modified>
  <cp:revision>11</cp:revision>
  <dc:subject/>
  <dc:title>Slide 1</dc:title>
</cp:coreProperties>
</file>